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2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27.png" ContentType="image/png"/>
  <Override PartName="/ppt/media/image26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3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chimes.wav" ContentType="audio/x-wav"/>
  <Override PartName="/ppt/media/image1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5.xml" ContentType="application/vnd.openxmlformats-officedocument.presentationml.comments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6-08-27T22:33:55.358000000" idx="2">
    <p:pos x="5357" y="164"/>
    <p:text/>
  </p:cm>
</p:cmLst>
</file>

<file path=ppt/comments/comment5.xml><?xml version="1.0" encoding="utf-8"?>
<p:cmLst xmlns:p="http://schemas.openxmlformats.org/presentationml/2006/main">
  <p:cm authorId="0" dt="2016-08-27T22:33:45.491000000" idx="1">
    <p:pos x="370" y="400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48B-A162-4A70-944E-4DC402E8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525-1CD9-4A6C-9159-73F78973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ACCAD-4C9E-4CEB-902C-943D3242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73105-427F-40F1-864F-1652B606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1C080-E4E8-4C97-93A3-89D0C121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60918-5CAA-4DEC-ACC1-8C7B498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D9C0E-0EB1-491C-B370-84286B8A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C3EAB-1BBF-46B6-9347-B9AF5B1A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6996D-9DA9-4348-9BD6-B3675DA5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B48CB-E247-4BA7-86FE-5F1D9A9A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E0840-9677-4547-ACB1-B1CC16D3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61E67-AB0B-4797-BE2D-69020BEC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A75-3FF7-4664-975C-A4809420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D44E7-A0DB-4B5F-AB62-2002E7AD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CC821-97EE-4E98-8D39-62E60FD0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80F74-E0D8-4E94-A49B-6223C134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7DB01-C29C-4D0C-A20C-015CD498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4EAAD-27BA-4F1F-A90D-B2E9C838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FAB6A-D812-4012-85E9-CDB3D6BB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EFD8A-FA07-4182-893C-0AF1629C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8F981-C78E-4557-B062-456D77A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1E4FE-63F0-414E-A0AD-70100B6E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CCB3C-5053-49D9-9CC8-A127CB56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B27-6FED-432F-AFDC-C34E1DA6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19387-B6D9-49AB-A7F1-6418C361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8C78F-4FDE-4B73-A312-A880288D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8EC33-7154-41DD-B634-EEBC4254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11FEF-2956-4107-A85E-C6C3259D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5955D-2F1E-42C0-A056-AD6A679D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BD9B3-09C1-4DD7-A89A-B48C175D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CFAB8-D50A-4513-A568-55F6DBC4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F7E04-BB56-4903-82FD-0FB57FD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FE707-1FB9-4D6A-97E8-6E9BD189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A9923-0A8D-4916-821B-9ACA9C89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8BBC-DC93-4146-BC28-AC1943CC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A5D98-F4D6-4758-9784-C78A90B9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764A1-F563-4B57-95CC-C32BA3EB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B79EF-BDAC-47F6-9F4A-AC48D853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6B9D5-1E5A-4717-B8E0-BA513D2A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3A30E-214C-4842-B3A1-465CF2D6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4CFB0-CA8C-44CF-9E04-25ABDB95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AB08B-BDA2-4178-86B9-FBC3FD4E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354E2-3FAD-4B15-ABED-F0E69012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7EDE4-6DA2-4AE1-B358-9E2F7FCB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F1F78-D6FB-436E-86F5-1684DA4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7858-AD1E-4058-915F-6CEBA41B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9B06B-1A08-4AFC-A92F-667358B1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FCD56-4DC7-4EC1-85B3-057AFF52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83693-192C-4EB8-8212-BF32B546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18D23-70EA-4619-8CF3-799A84EF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E69DB-92B4-4FB2-9A3A-ACB53EEB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7CCB-A9D6-4177-91A9-4BDAF9BD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AB28-8269-4F77-A6F1-E392C4CD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B746-6D81-4F6C-9461-08443841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9C54-DAF3-4D9B-8C23-A465B40A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9FD3-59D4-4E6A-9A1C-80D5380F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737-9851-432F-8DAD-85168D98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6E4B-6E23-48B3-80FA-16CC23BA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421B-D7FC-464F-AC76-34049018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20D5-0BBF-4F45-ADCB-01C0AECC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FD22-0AFB-4FE7-ADE4-766187A7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7F35-31F2-4260-9FBB-C6F9A7AC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000F-F393-4465-B952-E3D78287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B2AC-D33A-4B73-8D8A-046E3533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E292-A851-4890-ADD3-4795E0EC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D200-064F-4DE3-8028-9B0D93F6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9B69B-76DF-49A0-9E6C-97DB90D2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ED0-739A-4DB2-8E93-1DDAEF53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4298-6919-46F8-BDB4-FFD0672B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DD56F-7990-4EA7-9645-4F7D9F75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3C67-327A-4933-8E4D-1030CD3D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9651-26B7-4B85-9276-1B6AE329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77B9-2E74-4E79-ABE5-DA3BEB69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34914-3C62-4A2D-85A4-35683138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8F8A-50D4-40DB-BC6E-A01F2226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87A0D-789D-4B00-AE5D-92333B5B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818F-E5D7-40DE-9BA9-D1BB4200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DDD5-BF4D-49D7-8801-0301E62D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E3F-9DCA-4355-A69B-CE620648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29E44-4E5C-4922-A0DB-947EE640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8EFC2-8941-41F9-A4C5-BBCE8F7C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F428-8B78-4AED-BF0D-DE27B60B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D5865-596A-471E-B8E2-6238611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5F15-EB86-49EC-BA47-9498BD49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4458-A5D8-4C79-869E-6D8A5E1A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1369B-68B2-4B43-AEBE-AB966D01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3DA65-4E97-49DB-93F3-91F53022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E49E-AA86-4DEC-AB74-C40E4538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EB6B3-3506-4BFC-8D11-D04E5291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B75-E60B-4821-AA6C-680F55DB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34A7A-91EE-4BB9-A186-FC604D5F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7360-4C73-47FB-8D4B-713DDF27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00522-7873-4209-8B50-196575EB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DB21-A13A-4243-8BB1-0361D60F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7A3CB-36ED-4BEA-8035-71A7C521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F3773-C798-4395-8A21-D3B60C0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EAEF8-1176-4E82-AB70-EAC81B0F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B99DE-FCDC-416A-849B-DE845019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8A5CA-60A3-4EDE-9EF2-9A8DCECF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6291-4A8A-4984-9F0D-7DE3721F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E7B-40EE-49E3-80D1-7C9C76EB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4116-3BC4-45E3-8DEB-D49C3822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461A1-63E6-419A-A1E4-25440551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31346-A6E3-400F-AF35-39ADB16A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F9E84-6C52-4591-9327-12143126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75489-ECF2-4980-8483-555C6EE5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18371-2B36-4055-A785-0FF59629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B5F3F-7D87-4E3A-91EF-B6B3F72D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9E011-AE82-4108-97B6-71BFB6CB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08E8C-5681-4028-94FE-EBB01A13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EB1AE-D984-49CE-97CD-CEC78ECB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55D-763B-4ACF-BD36-2E802218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2FEA2-4BA4-4F77-A9AD-C1844D78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0092E-1D2E-4BFD-B75F-9081DD10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68995-ACEF-4014-A0AA-FD337F20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669E1-A9D0-40D6-83F0-A76F6865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52180-2849-4CFC-9CB0-A78B5503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C33AF-A293-4318-AD88-0F8A8A62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59EA0-3357-4C2D-8924-7770903B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6E320-C72B-44E9-BA64-F1969C2B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962C2-FA18-4245-8FBB-7E6C1C5D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20A70-FDF8-490C-A805-03A8A7BE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268-4B6D-4A73-8C18-C39CBDF6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29765-E990-4E5B-B3D2-B748D8EF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FA112-5350-419D-9E43-F6989A3F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5EC04-C8CE-4819-97C6-F156517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B205E-B32A-459B-ACC8-D67F9000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15AD6-F867-4462-9127-B75DA980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937CB-9D26-4A72-B1AB-5200F459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83ED8-6251-44A4-B55F-F74DBF49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0E273-28EB-49DD-8B66-666960EC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95E51-C008-4762-A992-FBB6DB1D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3DE2E-E56F-43FD-B34D-F862980D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88B-BCB0-407F-87D3-AA500AFB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85EF5-48E3-42BD-944A-6B47EF81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86582-A429-4B34-A536-D8D94BA9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FF7C1-F74F-4D96-9F31-5039AB80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57355-50B0-45C4-8D26-C5D1238B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5B9FA-95C6-4245-B3A4-B4E937AE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2619B-0D69-4461-950F-B66B107D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8B05A-E32A-4972-A119-AC1362A2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82AB8-2FB7-4066-8977-2B47840B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C6267-EA7F-43DA-9C72-E5B851DF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3197D-EFFF-4B4D-AADD-EA4D6DCE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891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891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891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891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891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891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891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9D51-0418-460D-9A56-C9C48310F5C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3132-84AB-470E-8652-D439F96C063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EEA7-D461-46A8-B9B4-80D7579282B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1615-D030-4CD7-BC33-BAFB120A987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993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993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993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994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994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994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994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E5F8-7EC7-4C50-B633-6AD3F29C9DE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4045-0D9D-46D5-A0C5-7F26BBEFBB6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3B48-7342-4CC1-BB7D-77CEF7C61D9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077D-19D6-4655-A004-3A7B97A1B38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A522-FF56-497C-831A-DA7D11A0D85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AE04-9956-477A-8B5C-4B545BA708B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AA93-38D1-4F26-BE05-7052C578D16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2E56-1C40-44AE-B4D2-C23BAA253E5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5.xml"/><Relationship Id="rId6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椭圆 5"/>
          <p:cNvSpPr/>
          <p:nvPr/>
        </p:nvSpPr>
        <p:spPr>
          <a:xfrm>
            <a:off x="714240" y="857160"/>
            <a:ext cx="201312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天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椭圆 11"/>
          <p:cNvSpPr/>
          <p:nvPr/>
        </p:nvSpPr>
        <p:spPr>
          <a:xfrm>
            <a:off x="3357720" y="78588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地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8" name="椭圆 12"/>
          <p:cNvSpPr/>
          <p:nvPr/>
        </p:nvSpPr>
        <p:spPr>
          <a:xfrm>
            <a:off x="6143760" y="85716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人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椭圆 6"/>
          <p:cNvSpPr/>
          <p:nvPr/>
        </p:nvSpPr>
        <p:spPr>
          <a:xfrm>
            <a:off x="3416400" y="350028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我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椭圆 7"/>
          <p:cNvSpPr/>
          <p:nvPr/>
        </p:nvSpPr>
        <p:spPr>
          <a:xfrm>
            <a:off x="6215040" y="3429000"/>
            <a:ext cx="201312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他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714240" y="3500280"/>
            <a:ext cx="201312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你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3" descr="0.jpg"/>
          <p:cNvPicPr/>
          <p:nvPr/>
        </p:nvPicPr>
        <p:blipFill>
          <a:blip r:embed="rId1"/>
          <a:stretch/>
        </p:blipFill>
        <p:spPr>
          <a:xfrm>
            <a:off x="3857760" y="3443400"/>
            <a:ext cx="4714920" cy="34146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4" descr="300.jpg"/>
          <p:cNvPicPr/>
          <p:nvPr/>
        </p:nvPicPr>
        <p:blipFill>
          <a:blip r:embed="rId2"/>
          <a:stretch/>
        </p:blipFill>
        <p:spPr>
          <a:xfrm>
            <a:off x="214200" y="285840"/>
            <a:ext cx="3071880" cy="407196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5" descr="XmJU6Y1HTa--FJJrgPJXp7-FN6G7xN62XLYt83krfaG-PPyq4BCDi5w34-I3Z15FCjM_FsO3sW809PHY7spB8g.jpg"/>
          <p:cNvPicPr/>
          <p:nvPr/>
        </p:nvPicPr>
        <p:blipFill>
          <a:blip r:embed="rId3"/>
          <a:stretch/>
        </p:blipFill>
        <p:spPr>
          <a:xfrm>
            <a:off x="3857760" y="500040"/>
            <a:ext cx="4717800" cy="3146400"/>
          </a:xfrm>
          <a:prstGeom prst="rect">
            <a:avLst/>
          </a:prstGeom>
          <a:ln w="0">
            <a:noFill/>
          </a:ln>
        </p:spPr>
      </p:pic>
      <p:sp>
        <p:nvSpPr>
          <p:cNvPr id="591" name="椭圆 6"/>
          <p:cNvSpPr/>
          <p:nvPr/>
        </p:nvSpPr>
        <p:spPr>
          <a:xfrm>
            <a:off x="6215040" y="5143680"/>
            <a:ext cx="1214640" cy="642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椭圆 7"/>
          <p:cNvSpPr/>
          <p:nvPr/>
        </p:nvSpPr>
        <p:spPr>
          <a:xfrm>
            <a:off x="6072120" y="866880"/>
            <a:ext cx="1500120" cy="704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椭圆 8"/>
          <p:cNvSpPr/>
          <p:nvPr/>
        </p:nvSpPr>
        <p:spPr>
          <a:xfrm>
            <a:off x="1143000" y="1143000"/>
            <a:ext cx="1500120" cy="771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4" name="组合 14"/>
          <p:cNvGrpSpPr/>
          <p:nvPr/>
        </p:nvGrpSpPr>
        <p:grpSpPr>
          <a:xfrm>
            <a:off x="6643800" y="142920"/>
            <a:ext cx="2071440" cy="704880"/>
            <a:chOff x="6643800" y="142920"/>
            <a:chExt cx="2071440" cy="704880"/>
          </a:xfrm>
        </p:grpSpPr>
        <p:sp>
          <p:nvSpPr>
            <p:cNvPr id="595" name="椭圆 9"/>
            <p:cNvSpPr/>
            <p:nvPr/>
          </p:nvSpPr>
          <p:spPr>
            <a:xfrm>
              <a:off x="6643800" y="142920"/>
              <a:ext cx="2071440" cy="70488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TextBox 10"/>
            <p:cNvSpPr/>
            <p:nvPr/>
          </p:nvSpPr>
          <p:spPr>
            <a:xfrm>
              <a:off x="7121520" y="214200"/>
              <a:ext cx="115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彻</a:t>
              </a:r>
              <a:r>
                <a:rPr b="0" i="1" lang="zh-CN" sz="3200" spc="-1" strike="noStrike" u="sng">
                  <a:solidFill>
                    <a:srgbClr val="ff0000"/>
                  </a:solidFill>
                  <a:uFillTx/>
                  <a:latin typeface="Franklin Gothic Book"/>
                  <a:ea typeface="黑体"/>
                </a:rPr>
                <a:t>天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彻</a:t>
              </a:r>
              <a:r>
                <a:rPr b="0" i="1" lang="zh-CN" sz="3200" spc="-1" strike="noStrike" u="sng">
                  <a:solidFill>
                    <a:srgbClr val="ff0000"/>
                  </a:solidFill>
                  <a:uFillTx/>
                  <a:latin typeface="Franklin Gothic Book"/>
                  <a:ea typeface="黑体"/>
                </a:rPr>
                <a:t>地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97" name="图片 11" descr="QQ图片20160821210810.png"/>
          <p:cNvPicPr/>
          <p:nvPr/>
        </p:nvPicPr>
        <p:blipFill>
          <a:blip r:embed="rId4"/>
          <a:stretch/>
        </p:blipFill>
        <p:spPr>
          <a:xfrm>
            <a:off x="214200" y="3500280"/>
            <a:ext cx="3143520" cy="3210120"/>
          </a:xfrm>
          <a:prstGeom prst="rect">
            <a:avLst/>
          </a:prstGeom>
          <a:ln w="0">
            <a:noFill/>
          </a:ln>
        </p:spPr>
      </p:pic>
      <p:sp>
        <p:nvSpPr>
          <p:cNvPr id="598" name="椭圆 13"/>
          <p:cNvSpPr/>
          <p:nvPr/>
        </p:nvSpPr>
        <p:spPr>
          <a:xfrm>
            <a:off x="1571760" y="4643280"/>
            <a:ext cx="1143000" cy="704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1" descr="IMG_4354.JPG"/>
          <p:cNvPicPr/>
          <p:nvPr/>
        </p:nvPicPr>
        <p:blipFill>
          <a:blip r:embed="rId1"/>
          <a:stretch/>
        </p:blipFill>
        <p:spPr>
          <a:xfrm>
            <a:off x="142920" y="428760"/>
            <a:ext cx="4232160" cy="564336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3" descr="IMG_4356.JPG"/>
          <p:cNvPicPr/>
          <p:nvPr/>
        </p:nvPicPr>
        <p:blipFill>
          <a:blip r:embed="rId2"/>
          <a:stretch/>
        </p:blipFill>
        <p:spPr>
          <a:xfrm>
            <a:off x="4643280" y="35712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601" name="椭圆 4"/>
          <p:cNvSpPr/>
          <p:nvPr/>
        </p:nvSpPr>
        <p:spPr>
          <a:xfrm>
            <a:off x="1000080" y="1643040"/>
            <a:ext cx="642960" cy="6429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椭圆 5"/>
          <p:cNvSpPr/>
          <p:nvPr/>
        </p:nvSpPr>
        <p:spPr>
          <a:xfrm>
            <a:off x="5500800" y="1143000"/>
            <a:ext cx="571320" cy="6429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1" descr="42542aef-8900-4e1d-8ea4-923074b7181d_500.jpg"/>
          <p:cNvPicPr/>
          <p:nvPr/>
        </p:nvPicPr>
        <p:blipFill>
          <a:blip r:embed="rId1"/>
          <a:stretch/>
        </p:blipFill>
        <p:spPr>
          <a:xfrm rot="21065400">
            <a:off x="285840" y="239400"/>
            <a:ext cx="3397320" cy="39654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" descr="5ebc70ac5d3a366bb05e04ed31d2bcb3.png"/>
          <p:cNvPicPr/>
          <p:nvPr/>
        </p:nvPicPr>
        <p:blipFill>
          <a:blip r:embed="rId2"/>
          <a:stretch/>
        </p:blipFill>
        <p:spPr>
          <a:xfrm rot="475800">
            <a:off x="3236400" y="3646440"/>
            <a:ext cx="4403880" cy="297828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" descr="QQ图片20160821211513.png"/>
          <p:cNvPicPr/>
          <p:nvPr/>
        </p:nvPicPr>
        <p:blipFill>
          <a:blip r:embed="rId3"/>
          <a:stretch/>
        </p:blipFill>
        <p:spPr>
          <a:xfrm rot="483000">
            <a:off x="5210280" y="212760"/>
            <a:ext cx="326700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-142920" y="773280"/>
            <a:ext cx="9457200" cy="2798640"/>
            <a:chOff x="-142920" y="773280"/>
            <a:chExt cx="9457200" cy="2798640"/>
          </a:xfrm>
        </p:grpSpPr>
        <p:grpSp>
          <p:nvGrpSpPr>
            <p:cNvPr id="607" name="Group 3"/>
            <p:cNvGrpSpPr/>
            <p:nvPr/>
          </p:nvGrpSpPr>
          <p:grpSpPr>
            <a:xfrm>
              <a:off x="-142920" y="773280"/>
              <a:ext cx="9457200" cy="2798640"/>
              <a:chOff x="-142920" y="773280"/>
              <a:chExt cx="9457200" cy="2798640"/>
            </a:xfrm>
          </p:grpSpPr>
          <p:grpSp>
            <p:nvGrpSpPr>
              <p:cNvPr id="608" name="Group 4"/>
              <p:cNvGrpSpPr/>
              <p:nvPr/>
            </p:nvGrpSpPr>
            <p:grpSpPr>
              <a:xfrm>
                <a:off x="-142920" y="773280"/>
                <a:ext cx="9457200" cy="2798640"/>
                <a:chOff x="-142920" y="773280"/>
                <a:chExt cx="9457200" cy="2798640"/>
              </a:xfrm>
            </p:grpSpPr>
            <p:pic>
              <p:nvPicPr>
                <p:cNvPr id="609" name="Picture 11" descr="768045_133721034142_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-142920" y="773280"/>
                  <a:ext cx="2311560" cy="279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12" descr="图片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74960" y="2191320"/>
                  <a:ext cx="7339320" cy="135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11" name="Text Box 18"/>
              <p:cNvSpPr/>
              <p:nvPr/>
            </p:nvSpPr>
            <p:spPr>
              <a:xfrm>
                <a:off x="2460600" y="2233440"/>
                <a:ext cx="912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4800" spc="-1" strike="noStrike" u="sng">
                    <a:solidFill>
                      <a:srgbClr val="0000ff"/>
                    </a:solidFill>
                    <a:uFillTx/>
                    <a:latin typeface="Franklin Gothic Book"/>
                    <a:ea typeface="楷体_GB2312"/>
                  </a:rPr>
                  <a:t>天地</a:t>
                </a:r>
                <a:endParaRPr b="0" i="1" lang="en-US" sz="4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2" name="Text Box 19"/>
              <p:cNvSpPr/>
              <p:nvPr/>
            </p:nvSpPr>
            <p:spPr>
              <a:xfrm>
                <a:off x="4310640" y="2253960"/>
                <a:ext cx="912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4800" spc="-1" strike="noStrike" u="sng">
                    <a:solidFill>
                      <a:srgbClr val="0000ff"/>
                    </a:solidFill>
                    <a:uFillTx/>
                    <a:latin typeface="Franklin Gothic Book"/>
                    <a:ea typeface="楷体_GB2312"/>
                  </a:rPr>
                  <a:t>你我</a:t>
                </a:r>
                <a:endParaRPr b="0" i="1" lang="en-US" sz="4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3" name="Text Box 20"/>
              <p:cNvSpPr/>
              <p:nvPr/>
            </p:nvSpPr>
            <p:spPr>
              <a:xfrm>
                <a:off x="6082200" y="2233440"/>
                <a:ext cx="912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4800" spc="-1" strike="noStrike" u="sng">
                    <a:solidFill>
                      <a:srgbClr val="0000ff"/>
                    </a:solidFill>
                    <a:uFillTx/>
                    <a:latin typeface="Franklin Gothic Book"/>
                    <a:ea typeface="楷体_GB2312"/>
                  </a:rPr>
                  <a:t>主人</a:t>
                </a:r>
                <a:endParaRPr b="0" i="1" lang="en-US" sz="4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4" name="Text Box 21"/>
              <p:cNvSpPr/>
              <p:nvPr/>
            </p:nvSpPr>
            <p:spPr>
              <a:xfrm>
                <a:off x="7809840" y="2253960"/>
                <a:ext cx="912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4800" spc="-1" strike="noStrike" u="sng">
                    <a:solidFill>
                      <a:srgbClr val="0000ff"/>
                    </a:solidFill>
                    <a:uFillTx/>
                    <a:latin typeface="Franklin Gothic Book"/>
                    <a:ea typeface="楷体_GB2312"/>
                  </a:rPr>
                  <a:t>他家</a:t>
                </a:r>
                <a:endParaRPr b="0" i="1" lang="en-US" sz="4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15" name="AutoShape 42"/>
            <p:cNvSpPr/>
            <p:nvPr/>
          </p:nvSpPr>
          <p:spPr>
            <a:xfrm rot="5400000">
              <a:off x="2870280" y="1310400"/>
              <a:ext cx="213120" cy="1695240"/>
            </a:xfrm>
            <a:custGeom>
              <a:avLst/>
              <a:gdLst>
                <a:gd name="textAreaLeft" fmla="*/ 23400 w 213120"/>
                <a:gd name="textAreaRight" fmla="*/ 155160 w 213120"/>
                <a:gd name="textAreaTop" fmla="*/ 459720 h 1695240"/>
                <a:gd name="textAreaBottom" fmla="*/ 1235520 h 16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662" y="2821"/>
                    <a:pt x="15723" y="5080"/>
                    <a:pt x="15723" y="10800"/>
                  </a:cubicBezTo>
                  <a:cubicBezTo>
                    <a:pt x="15723" y="16520"/>
                    <a:pt x="18662" y="1877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6" name="AutoShape 46"/>
            <p:cNvSpPr/>
            <p:nvPr/>
          </p:nvSpPr>
          <p:spPr>
            <a:xfrm rot="5400000">
              <a:off x="4642560" y="1310400"/>
              <a:ext cx="213120" cy="1694880"/>
            </a:xfrm>
            <a:custGeom>
              <a:avLst/>
              <a:gdLst>
                <a:gd name="textAreaLeft" fmla="*/ 23400 w 213120"/>
                <a:gd name="textAreaRight" fmla="*/ 155160 w 213120"/>
                <a:gd name="textAreaTop" fmla="*/ 459360 h 1694880"/>
                <a:gd name="textAreaBottom" fmla="*/ 1235520 h 169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662" y="2821"/>
                    <a:pt x="15723" y="5080"/>
                    <a:pt x="15723" y="10800"/>
                  </a:cubicBezTo>
                  <a:cubicBezTo>
                    <a:pt x="15723" y="16520"/>
                    <a:pt x="18662" y="1877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7" name="AutoShape 51"/>
            <p:cNvSpPr/>
            <p:nvPr/>
          </p:nvSpPr>
          <p:spPr>
            <a:xfrm rot="5400000">
              <a:off x="6491880" y="1310400"/>
              <a:ext cx="213120" cy="1695240"/>
            </a:xfrm>
            <a:custGeom>
              <a:avLst/>
              <a:gdLst>
                <a:gd name="textAreaLeft" fmla="*/ 23400 w 213120"/>
                <a:gd name="textAreaRight" fmla="*/ 155160 w 213120"/>
                <a:gd name="textAreaTop" fmla="*/ 459720 h 1695240"/>
                <a:gd name="textAreaBottom" fmla="*/ 1235520 h 16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662" y="2821"/>
                    <a:pt x="15723" y="5080"/>
                    <a:pt x="15723" y="10800"/>
                  </a:cubicBezTo>
                  <a:cubicBezTo>
                    <a:pt x="15723" y="16520"/>
                    <a:pt x="18662" y="1877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8" name="AutoShape 54"/>
            <p:cNvSpPr/>
            <p:nvPr/>
          </p:nvSpPr>
          <p:spPr>
            <a:xfrm rot="5400000">
              <a:off x="8263800" y="1310400"/>
              <a:ext cx="213120" cy="1695240"/>
            </a:xfrm>
            <a:custGeom>
              <a:avLst/>
              <a:gdLst>
                <a:gd name="textAreaLeft" fmla="*/ 23400 w 213120"/>
                <a:gd name="textAreaRight" fmla="*/ 155160 w 213120"/>
                <a:gd name="textAreaTop" fmla="*/ 459720 h 1695240"/>
                <a:gd name="textAreaBottom" fmla="*/ 1235520 h 16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662" y="2821"/>
                    <a:pt x="15723" y="5080"/>
                    <a:pt x="15723" y="10800"/>
                  </a:cubicBezTo>
                  <a:cubicBezTo>
                    <a:pt x="15723" y="16520"/>
                    <a:pt x="18662" y="1877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9" name="Group 15"/>
          <p:cNvGrpSpPr/>
          <p:nvPr/>
        </p:nvGrpSpPr>
        <p:grpSpPr>
          <a:xfrm>
            <a:off x="-214200" y="3571920"/>
            <a:ext cx="9385560" cy="2665440"/>
            <a:chOff x="-214200" y="3571920"/>
            <a:chExt cx="9385560" cy="2665440"/>
          </a:xfrm>
        </p:grpSpPr>
        <p:pic>
          <p:nvPicPr>
            <p:cNvPr id="620" name="Picture 61" descr="768045_133721034142_2"/>
            <p:cNvPicPr/>
            <p:nvPr/>
          </p:nvPicPr>
          <p:blipFill>
            <a:blip r:embed="rId3"/>
            <a:stretch/>
          </p:blipFill>
          <p:spPr>
            <a:xfrm>
              <a:off x="-214200" y="3571920"/>
              <a:ext cx="2428560" cy="266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1" name="Group 17"/>
            <p:cNvGrpSpPr/>
            <p:nvPr/>
          </p:nvGrpSpPr>
          <p:grpSpPr>
            <a:xfrm>
              <a:off x="2018880" y="4871520"/>
              <a:ext cx="7152480" cy="1362240"/>
              <a:chOff x="2018880" y="4871520"/>
              <a:chExt cx="7152480" cy="1362240"/>
            </a:xfrm>
          </p:grpSpPr>
          <p:grpSp>
            <p:nvGrpSpPr>
              <p:cNvPr id="622" name="Group 18"/>
              <p:cNvGrpSpPr/>
              <p:nvPr/>
            </p:nvGrpSpPr>
            <p:grpSpPr>
              <a:xfrm>
                <a:off x="2018880" y="4996080"/>
                <a:ext cx="7152480" cy="1237680"/>
                <a:chOff x="2018880" y="4996080"/>
                <a:chExt cx="7152480" cy="1237680"/>
              </a:xfrm>
            </p:grpSpPr>
            <p:pic>
              <p:nvPicPr>
                <p:cNvPr id="623" name="Picture 13" descr="图片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18880" y="4996080"/>
                  <a:ext cx="7152480" cy="123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Text Box 22"/>
                <p:cNvSpPr/>
                <p:nvPr/>
              </p:nvSpPr>
              <p:spPr>
                <a:xfrm>
                  <a:off x="2498760" y="516348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ff"/>
                      </a:solidFill>
                      <a:uFillTx/>
                      <a:latin typeface="黑体"/>
                      <a:ea typeface="黑体"/>
                    </a:rPr>
                    <a:t>天天开心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25" name="Text Box 23"/>
                <p:cNvSpPr/>
                <p:nvPr/>
              </p:nvSpPr>
              <p:spPr>
                <a:xfrm>
                  <a:off x="4322880" y="5163480"/>
                  <a:ext cx="991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ff"/>
                      </a:solidFill>
                      <a:uFillTx/>
                      <a:latin typeface="黑体"/>
                      <a:ea typeface="黑体"/>
                    </a:rPr>
                    <a:t>你好我好 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26" name="Text Box 24"/>
                <p:cNvSpPr/>
                <p:nvPr/>
              </p:nvSpPr>
              <p:spPr>
                <a:xfrm>
                  <a:off x="5868360" y="5163480"/>
                  <a:ext cx="1212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800" spc="-1" strike="noStrike" u="sng">
                      <a:solidFill>
                        <a:srgbClr val="ff0000"/>
                      </a:solidFill>
                      <a:uFillTx/>
                      <a:latin typeface="黑体"/>
                      <a:ea typeface="黑体"/>
                    </a:rPr>
                    <a:t> </a:t>
                  </a:r>
                  <a:r>
                    <a:rPr b="0" i="1" lang="zh-CN" sz="2800" spc="-1" strike="noStrike" u="sng">
                      <a:solidFill>
                        <a:srgbClr val="0000ff"/>
                      </a:solidFill>
                      <a:uFillTx/>
                      <a:latin typeface="黑体"/>
                      <a:ea typeface="黑体"/>
                    </a:rPr>
                    <a:t>我的名字</a:t>
                  </a:r>
                  <a:endParaRPr b="0" i="1" lang="en-US" sz="2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27" name="Text Box 25"/>
                <p:cNvSpPr/>
                <p:nvPr/>
              </p:nvSpPr>
              <p:spPr>
                <a:xfrm>
                  <a:off x="7797240" y="5140440"/>
                  <a:ext cx="878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800" spc="-1" strike="noStrike" u="sng">
                      <a:solidFill>
                        <a:srgbClr val="ff0000"/>
                      </a:solidFill>
                      <a:uFillTx/>
                      <a:latin typeface="黑体"/>
                      <a:ea typeface="黑体"/>
                    </a:rPr>
                    <a:t> </a:t>
                  </a:r>
                  <a:r>
                    <a:rPr b="0" i="1" lang="zh-CN" sz="2800" spc="-1" strike="noStrike" u="sng">
                      <a:solidFill>
                        <a:srgbClr val="0000ff"/>
                      </a:solidFill>
                      <a:uFillTx/>
                      <a:latin typeface="黑体"/>
                      <a:ea typeface="黑体"/>
                    </a:rPr>
                    <a:t>地方</a:t>
                  </a:r>
                  <a:r>
                    <a:rPr b="0" i="1" lang="zh-CN" sz="2800" spc="-1" strike="noStrike" u="sng">
                      <a:solidFill>
                        <a:srgbClr val="ff0000"/>
                      </a:solidFill>
                      <a:uFillTx/>
                      <a:latin typeface="黑体"/>
                      <a:ea typeface="黑体"/>
                    </a:rPr>
                    <a:t> </a:t>
                  </a:r>
                  <a:endParaRPr b="0" i="1" lang="en-US" sz="2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628" name="AutoShape 43"/>
              <p:cNvSpPr/>
              <p:nvPr/>
            </p:nvSpPr>
            <p:spPr>
              <a:xfrm rot="5400000">
                <a:off x="2916000" y="4142880"/>
                <a:ext cx="194760" cy="1652040"/>
              </a:xfrm>
              <a:custGeom>
                <a:avLst/>
                <a:gdLst>
                  <a:gd name="textAreaLeft" fmla="*/ 21600 w 194760"/>
                  <a:gd name="textAreaRight" fmla="*/ 141840 w 194760"/>
                  <a:gd name="textAreaTop" fmla="*/ 447840 h 1652040"/>
                  <a:gd name="textAreaBottom" fmla="*/ 1204200 h 165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662" y="2821"/>
                      <a:pt x="15723" y="5080"/>
                      <a:pt x="15723" y="10800"/>
                    </a:cubicBezTo>
                    <a:cubicBezTo>
                      <a:pt x="15723" y="16520"/>
                      <a:pt x="18662" y="1877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9" name="AutoShape 48"/>
              <p:cNvSpPr/>
              <p:nvPr/>
            </p:nvSpPr>
            <p:spPr>
              <a:xfrm rot="5400000">
                <a:off x="4642560" y="4142880"/>
                <a:ext cx="194760" cy="1652040"/>
              </a:xfrm>
              <a:custGeom>
                <a:avLst/>
                <a:gdLst>
                  <a:gd name="textAreaLeft" fmla="*/ 21600 w 194760"/>
                  <a:gd name="textAreaRight" fmla="*/ 141840 w 194760"/>
                  <a:gd name="textAreaTop" fmla="*/ 447840 h 1652040"/>
                  <a:gd name="textAreaBottom" fmla="*/ 1204200 h 165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662" y="2821"/>
                      <a:pt x="15723" y="5080"/>
                      <a:pt x="15723" y="10800"/>
                    </a:cubicBezTo>
                    <a:cubicBezTo>
                      <a:pt x="15723" y="16520"/>
                      <a:pt x="18662" y="1877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0" name="AutoShape 52"/>
              <p:cNvSpPr/>
              <p:nvPr/>
            </p:nvSpPr>
            <p:spPr>
              <a:xfrm rot="5400000">
                <a:off x="6370920" y="4142880"/>
                <a:ext cx="194760" cy="1652040"/>
              </a:xfrm>
              <a:custGeom>
                <a:avLst/>
                <a:gdLst>
                  <a:gd name="textAreaLeft" fmla="*/ 21600 w 194760"/>
                  <a:gd name="textAreaRight" fmla="*/ 141840 w 194760"/>
                  <a:gd name="textAreaTop" fmla="*/ 447840 h 1652040"/>
                  <a:gd name="textAreaBottom" fmla="*/ 1204200 h 165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662" y="2821"/>
                      <a:pt x="15723" y="5080"/>
                      <a:pt x="15723" y="10800"/>
                    </a:cubicBezTo>
                    <a:cubicBezTo>
                      <a:pt x="15723" y="16520"/>
                      <a:pt x="18662" y="1877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1" name="AutoShape 55"/>
              <p:cNvSpPr/>
              <p:nvPr/>
            </p:nvSpPr>
            <p:spPr>
              <a:xfrm rot="5400000">
                <a:off x="8172000" y="4142880"/>
                <a:ext cx="194760" cy="1652040"/>
              </a:xfrm>
              <a:custGeom>
                <a:avLst/>
                <a:gdLst>
                  <a:gd name="textAreaLeft" fmla="*/ 21600 w 194760"/>
                  <a:gd name="textAreaRight" fmla="*/ 141840 w 194760"/>
                  <a:gd name="textAreaTop" fmla="*/ 447840 h 1652040"/>
                  <a:gd name="textAreaBottom" fmla="*/ 1204200 h 165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662" y="2821"/>
                      <a:pt x="15723" y="5080"/>
                      <a:pt x="15723" y="10800"/>
                    </a:cubicBezTo>
                    <a:cubicBezTo>
                      <a:pt x="15723" y="16520"/>
                      <a:pt x="18662" y="1877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32" name="TextBox 27"/>
          <p:cNvSpPr/>
          <p:nvPr/>
        </p:nvSpPr>
        <p:spPr>
          <a:xfrm>
            <a:off x="3117960" y="428760"/>
            <a:ext cx="3541320" cy="916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天 地 人 你 我 他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3"/>
          <p:cNvGrpSpPr/>
          <p:nvPr/>
        </p:nvGrpSpPr>
        <p:grpSpPr>
          <a:xfrm>
            <a:off x="3348000" y="571680"/>
            <a:ext cx="2160720" cy="2379960"/>
            <a:chOff x="3348000" y="571680"/>
            <a:chExt cx="2160720" cy="2379960"/>
          </a:xfrm>
        </p:grpSpPr>
        <p:grpSp>
          <p:nvGrpSpPr>
            <p:cNvPr id="513" name="Group 7"/>
            <p:cNvGrpSpPr/>
            <p:nvPr/>
          </p:nvGrpSpPr>
          <p:grpSpPr>
            <a:xfrm>
              <a:off x="3348000" y="692280"/>
              <a:ext cx="2160720" cy="2160360"/>
              <a:chOff x="3348000" y="692280"/>
              <a:chExt cx="2160720" cy="2160360"/>
            </a:xfrm>
          </p:grpSpPr>
          <p:sp>
            <p:nvSpPr>
              <p:cNvPr id="514" name="Rectangle 8"/>
              <p:cNvSpPr/>
              <p:nvPr/>
            </p:nvSpPr>
            <p:spPr>
              <a:xfrm>
                <a:off x="3348000" y="692280"/>
                <a:ext cx="2158920" cy="21589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3348000" y="1771560"/>
                <a:ext cx="2160720" cy="360"/>
                <a:chOff x="3348000" y="1771560"/>
                <a:chExt cx="2160720" cy="360"/>
              </a:xfrm>
            </p:grpSpPr>
            <p:sp>
              <p:nvSpPr>
                <p:cNvPr id="516" name="Line 9"/>
                <p:cNvSpPr/>
                <p:nvPr/>
              </p:nvSpPr>
              <p:spPr>
                <a:xfrm>
                  <a:off x="3348000" y="1771560"/>
                  <a:ext cx="2160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7" name=""/>
                <p:cNvSpPr txBox="1"/>
                <p:nvPr/>
              </p:nvSpPr>
              <p:spPr>
                <a:xfrm>
                  <a:off x="3348000" y="1771560"/>
                  <a:ext cx="21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4429080" y="692280"/>
                <a:ext cx="360" cy="2160360"/>
                <a:chOff x="4429080" y="692280"/>
                <a:chExt cx="360" cy="2160360"/>
              </a:xfrm>
            </p:grpSpPr>
            <p:sp>
              <p:nvSpPr>
                <p:cNvPr id="519" name="Line 10"/>
                <p:cNvSpPr/>
                <p:nvPr/>
              </p:nvSpPr>
              <p:spPr>
                <a:xfrm>
                  <a:off x="4429080" y="692280"/>
                  <a:ext cx="0" cy="2160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20" name=""/>
                <p:cNvSpPr txBox="1"/>
                <p:nvPr/>
              </p:nvSpPr>
              <p:spPr>
                <a:xfrm>
                  <a:off x="4429080" y="692280"/>
                  <a:ext cx="360" cy="21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521" name="Text Box 11"/>
            <p:cNvSpPr/>
            <p:nvPr/>
          </p:nvSpPr>
          <p:spPr>
            <a:xfrm>
              <a:off x="3414600" y="571680"/>
              <a:ext cx="19432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50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天</a:t>
              </a:r>
              <a:endParaRPr b="0" i="1" lang="en-US" sz="15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22" name="图片 14" descr="图片IMG_4346 (3).JPG"/>
          <p:cNvPicPr/>
          <p:nvPr/>
        </p:nvPicPr>
        <p:blipFill>
          <a:blip r:embed="rId1"/>
          <a:stretch/>
        </p:blipFill>
        <p:spPr>
          <a:xfrm>
            <a:off x="1143000" y="3643200"/>
            <a:ext cx="1857240" cy="24400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15" descr="图片IMG_4346 (2).JPG"/>
          <p:cNvPicPr/>
          <p:nvPr/>
        </p:nvPicPr>
        <p:blipFill>
          <a:blip r:embed="rId2"/>
          <a:stretch/>
        </p:blipFill>
        <p:spPr>
          <a:xfrm>
            <a:off x="5786280" y="3643200"/>
            <a:ext cx="1625760" cy="2457720"/>
          </a:xfrm>
          <a:prstGeom prst="rect">
            <a:avLst/>
          </a:prstGeom>
          <a:ln w="0">
            <a:noFill/>
          </a:ln>
        </p:spPr>
      </p:pic>
      <p:sp>
        <p:nvSpPr>
          <p:cNvPr id="524" name="矩形 16"/>
          <p:cNvSpPr/>
          <p:nvPr/>
        </p:nvSpPr>
        <p:spPr>
          <a:xfrm>
            <a:off x="3429000" y="3643200"/>
            <a:ext cx="1928880" cy="2428920"/>
          </a:xfrm>
          <a:prstGeom prst="rect">
            <a:avLst/>
          </a:prstGeom>
          <a:solidFill>
            <a:srgbClr val="d9d9d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天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13"/>
          <p:cNvGrpSpPr/>
          <p:nvPr/>
        </p:nvGrpSpPr>
        <p:grpSpPr>
          <a:xfrm>
            <a:off x="3348000" y="428760"/>
            <a:ext cx="2160720" cy="2423880"/>
            <a:chOff x="3348000" y="428760"/>
            <a:chExt cx="2160720" cy="2423880"/>
          </a:xfrm>
        </p:grpSpPr>
        <p:grpSp>
          <p:nvGrpSpPr>
            <p:cNvPr id="526" name="Group 7"/>
            <p:cNvGrpSpPr/>
            <p:nvPr/>
          </p:nvGrpSpPr>
          <p:grpSpPr>
            <a:xfrm>
              <a:off x="3348000" y="692280"/>
              <a:ext cx="2160720" cy="2160360"/>
              <a:chOff x="3348000" y="692280"/>
              <a:chExt cx="2160720" cy="2160360"/>
            </a:xfrm>
          </p:grpSpPr>
          <p:sp>
            <p:nvSpPr>
              <p:cNvPr id="527" name="Rectangle 8"/>
              <p:cNvSpPr/>
              <p:nvPr/>
            </p:nvSpPr>
            <p:spPr>
              <a:xfrm>
                <a:off x="3348000" y="692280"/>
                <a:ext cx="2158920" cy="21589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3348000" y="1771560"/>
                <a:ext cx="2160720" cy="360"/>
                <a:chOff x="3348000" y="1771560"/>
                <a:chExt cx="2160720" cy="360"/>
              </a:xfrm>
            </p:grpSpPr>
            <p:sp>
              <p:nvSpPr>
                <p:cNvPr id="529" name="Line 9"/>
                <p:cNvSpPr/>
                <p:nvPr/>
              </p:nvSpPr>
              <p:spPr>
                <a:xfrm>
                  <a:off x="3348000" y="1771560"/>
                  <a:ext cx="2160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30" name=""/>
                <p:cNvSpPr txBox="1"/>
                <p:nvPr/>
              </p:nvSpPr>
              <p:spPr>
                <a:xfrm>
                  <a:off x="3348000" y="1771560"/>
                  <a:ext cx="21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4429080" y="692280"/>
                <a:ext cx="360" cy="2160360"/>
                <a:chOff x="4429080" y="692280"/>
                <a:chExt cx="360" cy="2160360"/>
              </a:xfrm>
            </p:grpSpPr>
            <p:sp>
              <p:nvSpPr>
                <p:cNvPr id="532" name="Line 10"/>
                <p:cNvSpPr/>
                <p:nvPr/>
              </p:nvSpPr>
              <p:spPr>
                <a:xfrm>
                  <a:off x="4429080" y="692280"/>
                  <a:ext cx="0" cy="2160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33" name=""/>
                <p:cNvSpPr txBox="1"/>
                <p:nvPr/>
              </p:nvSpPr>
              <p:spPr>
                <a:xfrm>
                  <a:off x="4429080" y="692280"/>
                  <a:ext cx="360" cy="21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534" name="Text Box 11"/>
            <p:cNvSpPr/>
            <p:nvPr/>
          </p:nvSpPr>
          <p:spPr>
            <a:xfrm>
              <a:off x="3486240" y="428760"/>
              <a:ext cx="19429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50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地</a:t>
              </a:r>
              <a:endParaRPr b="0" i="1" lang="en-US" sz="15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35" name="矩形 16"/>
          <p:cNvSpPr/>
          <p:nvPr/>
        </p:nvSpPr>
        <p:spPr>
          <a:xfrm>
            <a:off x="6072120" y="3643200"/>
            <a:ext cx="2071800" cy="2357640"/>
          </a:xfrm>
          <a:prstGeom prst="rect">
            <a:avLst/>
          </a:prstGeom>
          <a:solidFill>
            <a:srgbClr val="d9d9d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地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6" name="图片 10" descr="图片IMG_4347 (2).JPG"/>
          <p:cNvPicPr/>
          <p:nvPr/>
        </p:nvPicPr>
        <p:blipFill>
          <a:blip r:embed="rId1"/>
          <a:stretch/>
        </p:blipFill>
        <p:spPr>
          <a:xfrm>
            <a:off x="1000080" y="3714840"/>
            <a:ext cx="1928880" cy="228600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11" descr="图片IMG_4349 (2).JPG"/>
          <p:cNvPicPr/>
          <p:nvPr/>
        </p:nvPicPr>
        <p:blipFill>
          <a:blip r:embed="rId2"/>
          <a:stretch/>
        </p:blipFill>
        <p:spPr>
          <a:xfrm>
            <a:off x="3357720" y="3710160"/>
            <a:ext cx="2143080" cy="22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3"/>
          <p:cNvGrpSpPr/>
          <p:nvPr/>
        </p:nvGrpSpPr>
        <p:grpSpPr>
          <a:xfrm>
            <a:off x="3348000" y="500040"/>
            <a:ext cx="2160720" cy="2379960"/>
            <a:chOff x="3348000" y="500040"/>
            <a:chExt cx="2160720" cy="2379960"/>
          </a:xfrm>
        </p:grpSpPr>
        <p:grpSp>
          <p:nvGrpSpPr>
            <p:cNvPr id="539" name="Group 7"/>
            <p:cNvGrpSpPr/>
            <p:nvPr/>
          </p:nvGrpSpPr>
          <p:grpSpPr>
            <a:xfrm>
              <a:off x="3348000" y="692280"/>
              <a:ext cx="2160720" cy="2160360"/>
              <a:chOff x="3348000" y="692280"/>
              <a:chExt cx="2160720" cy="2160360"/>
            </a:xfrm>
          </p:grpSpPr>
          <p:sp>
            <p:nvSpPr>
              <p:cNvPr id="540" name="Rectangle 8"/>
              <p:cNvSpPr/>
              <p:nvPr/>
            </p:nvSpPr>
            <p:spPr>
              <a:xfrm>
                <a:off x="3348000" y="692280"/>
                <a:ext cx="2158920" cy="21589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3348000" y="1771560"/>
                <a:ext cx="2160720" cy="360"/>
                <a:chOff x="3348000" y="1771560"/>
                <a:chExt cx="2160720" cy="360"/>
              </a:xfrm>
            </p:grpSpPr>
            <p:sp>
              <p:nvSpPr>
                <p:cNvPr id="542" name="Line 9"/>
                <p:cNvSpPr/>
                <p:nvPr/>
              </p:nvSpPr>
              <p:spPr>
                <a:xfrm>
                  <a:off x="3348000" y="1771560"/>
                  <a:ext cx="2160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3" name=""/>
                <p:cNvSpPr txBox="1"/>
                <p:nvPr/>
              </p:nvSpPr>
              <p:spPr>
                <a:xfrm>
                  <a:off x="3348000" y="1771560"/>
                  <a:ext cx="21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4429080" y="692280"/>
                <a:ext cx="360" cy="2160360"/>
                <a:chOff x="4429080" y="692280"/>
                <a:chExt cx="360" cy="2160360"/>
              </a:xfrm>
            </p:grpSpPr>
            <p:sp>
              <p:nvSpPr>
                <p:cNvPr id="545" name="Line 10"/>
                <p:cNvSpPr/>
                <p:nvPr/>
              </p:nvSpPr>
              <p:spPr>
                <a:xfrm>
                  <a:off x="4429080" y="692280"/>
                  <a:ext cx="0" cy="2160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lgDashDot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6" name=""/>
                <p:cNvSpPr txBox="1"/>
                <p:nvPr/>
              </p:nvSpPr>
              <p:spPr>
                <a:xfrm>
                  <a:off x="4429080" y="692280"/>
                  <a:ext cx="360" cy="21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547" name="Text Box 11"/>
            <p:cNvSpPr/>
            <p:nvPr/>
          </p:nvSpPr>
          <p:spPr>
            <a:xfrm>
              <a:off x="3486240" y="500040"/>
              <a:ext cx="19429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50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人</a:t>
              </a:r>
              <a:endParaRPr b="0" i="1" lang="en-US" sz="15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8" name="矩形 16"/>
          <p:cNvSpPr/>
          <p:nvPr/>
        </p:nvSpPr>
        <p:spPr>
          <a:xfrm>
            <a:off x="3643200" y="3571920"/>
            <a:ext cx="2000520" cy="2357280"/>
          </a:xfrm>
          <a:prstGeom prst="rect">
            <a:avLst/>
          </a:prstGeom>
          <a:solidFill>
            <a:srgbClr val="d9d9d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人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9" name="图片 10" descr="图片IMG_4348 (2).JPG"/>
          <p:cNvPicPr/>
          <p:nvPr/>
        </p:nvPicPr>
        <p:blipFill>
          <a:blip r:embed="rId1"/>
          <a:stretch/>
        </p:blipFill>
        <p:spPr>
          <a:xfrm>
            <a:off x="1214280" y="3643200"/>
            <a:ext cx="1857600" cy="22226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1" descr="图片IMG_4348 (3).JPG"/>
          <p:cNvPicPr/>
          <p:nvPr/>
        </p:nvPicPr>
        <p:blipFill>
          <a:blip r:embed="rId2"/>
          <a:stretch/>
        </p:blipFill>
        <p:spPr>
          <a:xfrm>
            <a:off x="6286680" y="1170000"/>
            <a:ext cx="2300040" cy="47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椭圆 5"/>
          <p:cNvSpPr/>
          <p:nvPr/>
        </p:nvSpPr>
        <p:spPr>
          <a:xfrm>
            <a:off x="785880" y="2214720"/>
            <a:ext cx="2012760" cy="192852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天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椭圆 11"/>
          <p:cNvSpPr/>
          <p:nvPr/>
        </p:nvSpPr>
        <p:spPr>
          <a:xfrm>
            <a:off x="3571920" y="214308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地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椭圆 12"/>
          <p:cNvSpPr/>
          <p:nvPr/>
        </p:nvSpPr>
        <p:spPr>
          <a:xfrm>
            <a:off x="6357960" y="214308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人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矩形 9"/>
          <p:cNvSpPr/>
          <p:nvPr/>
        </p:nvSpPr>
        <p:spPr>
          <a:xfrm>
            <a:off x="1797480" y="428760"/>
            <a:ext cx="256284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《</a:t>
            </a:r>
            <a:r>
              <a:rPr b="0" i="1" lang="zh-CN" sz="24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三字经</a:t>
            </a:r>
            <a:r>
              <a:rPr b="0" i="1" lang="en-US" sz="24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》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三才者，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天地人</a:t>
            </a:r>
            <a:r>
              <a:rPr b="0" i="1" lang="zh-CN" sz="4000" spc="-1" strike="noStrike" u="sng">
                <a:solidFill>
                  <a:srgbClr val="002060"/>
                </a:solidFill>
                <a:uFillTx/>
                <a:latin typeface="楷体"/>
                <a:ea typeface="楷体"/>
              </a:rPr>
              <a:t>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矩形 6"/>
          <p:cNvSpPr/>
          <p:nvPr/>
        </p:nvSpPr>
        <p:spPr>
          <a:xfrm>
            <a:off x="928800" y="4857840"/>
            <a:ext cx="7858080" cy="8254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三才，就是天、地、人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天地人合一，有了这三个方面，世界才开始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矩形 16390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图片 13" descr="20100819104304225 (2).jpg"/>
          <p:cNvPicPr/>
          <p:nvPr/>
        </p:nvPicPr>
        <p:blipFill>
          <a:blip r:embed="rId1"/>
          <a:stretch/>
        </p:blipFill>
        <p:spPr>
          <a:xfrm>
            <a:off x="1714680" y="1928880"/>
            <a:ext cx="6286320" cy="3767040"/>
          </a:xfrm>
          <a:prstGeom prst="rect">
            <a:avLst/>
          </a:prstGeom>
          <a:ln w="0">
            <a:noFill/>
          </a:ln>
        </p:spPr>
      </p:pic>
      <p:sp>
        <p:nvSpPr>
          <p:cNvPr id="558" name="椭圆 6"/>
          <p:cNvSpPr/>
          <p:nvPr/>
        </p:nvSpPr>
        <p:spPr>
          <a:xfrm>
            <a:off x="3714840" y="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我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椭圆 7"/>
          <p:cNvSpPr/>
          <p:nvPr/>
        </p:nvSpPr>
        <p:spPr>
          <a:xfrm>
            <a:off x="6715080" y="4500720"/>
            <a:ext cx="2013120" cy="192852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他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椭圆 8"/>
          <p:cNvSpPr/>
          <p:nvPr/>
        </p:nvSpPr>
        <p:spPr>
          <a:xfrm>
            <a:off x="285840" y="2571840"/>
            <a:ext cx="2012760" cy="1928880"/>
          </a:xfrm>
          <a:prstGeom prst="ellipse">
            <a:avLst/>
          </a:prstGeom>
          <a:gradFill rotWithShape="0">
            <a:gsLst>
              <a:gs pos="0">
                <a:srgbClr val="f9f9fc"/>
              </a:gs>
              <a:gs pos="100000">
                <a:srgbClr val="ececf6"/>
              </a:gs>
            </a:gsLst>
            <a:lin ang="5400000"/>
          </a:gradFill>
          <a:ln w="648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你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1"/>
          <p:cNvSpPr/>
          <p:nvPr/>
        </p:nvSpPr>
        <p:spPr>
          <a:xfrm>
            <a:off x="1143000" y="1500120"/>
            <a:ext cx="6572160" cy="106884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你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_____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我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_____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他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____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我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们都是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______________________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TextBox 2"/>
          <p:cNvSpPr/>
          <p:nvPr/>
        </p:nvSpPr>
        <p:spPr>
          <a:xfrm>
            <a:off x="1339920" y="642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2060"/>
                </a:solidFill>
                <a:uFillTx/>
                <a:latin typeface="Franklin Gothic Book"/>
                <a:ea typeface="黑体"/>
              </a:rPr>
              <a:t>说一说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3" name="图片 3" descr="Redocn_2013040913044274 (2).jpg"/>
          <p:cNvPicPr/>
          <p:nvPr/>
        </p:nvPicPr>
        <p:blipFill>
          <a:blip r:embed="rId1"/>
          <a:stretch/>
        </p:blipFill>
        <p:spPr>
          <a:xfrm>
            <a:off x="1143000" y="2786040"/>
            <a:ext cx="6572160" cy="37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6" descr="Redocn_2013040913044274 (2).jpg"/>
          <p:cNvPicPr/>
          <p:nvPr/>
        </p:nvPicPr>
        <p:blipFill>
          <a:blip r:embed="rId1"/>
          <a:stretch/>
        </p:blipFill>
        <p:spPr>
          <a:xfrm>
            <a:off x="3214800" y="1500120"/>
            <a:ext cx="5707080" cy="3438720"/>
          </a:xfrm>
          <a:prstGeom prst="rect">
            <a:avLst/>
          </a:prstGeom>
          <a:ln w="0">
            <a:noFill/>
          </a:ln>
        </p:spPr>
      </p:pic>
      <p:pic>
        <p:nvPicPr>
          <p:cNvPr id="565" name="你的名字叫什么.mp3" descr=""/>
          <p:cNvPicPr/>
          <p:nvPr/>
        </p:nvPicPr>
        <p:blipFill>
          <a:blip r:embed="rId2"/>
          <a:stretch/>
        </p:blipFill>
        <p:spPr>
          <a:xfrm>
            <a:off x="3500280" y="1500120"/>
            <a:ext cx="438480" cy="438120"/>
          </a:xfrm>
          <a:prstGeom prst="rect">
            <a:avLst/>
          </a:prstGeom>
          <a:ln w="0">
            <a:noFill/>
          </a:ln>
        </p:spPr>
      </p:pic>
      <p:sp>
        <p:nvSpPr>
          <p:cNvPr id="566" name="矩形 4"/>
          <p:cNvSpPr/>
          <p:nvPr/>
        </p:nvSpPr>
        <p:spPr>
          <a:xfrm>
            <a:off x="500040" y="1071720"/>
            <a:ext cx="307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Franklin Gothic Book"/>
                <a:ea typeface="黑体"/>
              </a:rPr>
              <a:t>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的名字叫什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70c0"/>
                </a:solidFill>
                <a:uFillTx/>
                <a:latin typeface="Franklin Gothic Book"/>
                <a:ea typeface="黑体"/>
              </a:rPr>
              <a:t>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的名字叫什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Franklin Gothic Book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70c0"/>
                </a:solidFill>
                <a:uFillTx/>
                <a:latin typeface="Franklin Gothic Book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Franklin Gothic Book"/>
                <a:ea typeface="黑体"/>
              </a:rPr>
              <a:t>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的名字真好听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70c0"/>
                </a:solidFill>
                <a:uFillTx/>
                <a:latin typeface="Franklin Gothic Book"/>
                <a:ea typeface="黑体"/>
              </a:rPr>
              <a:t>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的名字叫什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Franklin Gothic Book"/>
                <a:ea typeface="黑体"/>
              </a:rPr>
              <a:t>你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的名字叫什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70c0"/>
                </a:solidFill>
                <a:uFillTx/>
                <a:latin typeface="Franklin Gothic Book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Franklin Gothic Book"/>
                <a:ea typeface="黑体"/>
              </a:rPr>
              <a:t>我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09969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2ab5c708a67bc4036b60fb88"/>
          <p:cNvPicPr/>
          <p:nvPr/>
        </p:nvPicPr>
        <p:blipFill>
          <a:blip r:embed="rId1"/>
          <a:stretch/>
        </p:blipFill>
        <p:spPr>
          <a:xfrm>
            <a:off x="112680" y="0"/>
            <a:ext cx="9828360" cy="742320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3"/>
          <p:cNvGrpSpPr/>
          <p:nvPr/>
        </p:nvGrpSpPr>
        <p:grpSpPr>
          <a:xfrm>
            <a:off x="3203640" y="1484280"/>
            <a:ext cx="1296720" cy="1323720"/>
            <a:chOff x="3203640" y="1484280"/>
            <a:chExt cx="1296720" cy="1323720"/>
          </a:xfrm>
        </p:grpSpPr>
        <p:pic>
          <p:nvPicPr>
            <p:cNvPr id="569" name="Picture 4" descr="25"/>
            <p:cNvPicPr/>
            <p:nvPr/>
          </p:nvPicPr>
          <p:blipFill>
            <a:blip r:embed="rId2"/>
            <a:stretch/>
          </p:blipFill>
          <p:spPr>
            <a:xfrm>
              <a:off x="3203640" y="1484280"/>
              <a:ext cx="1191240" cy="13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5"/>
            <p:cNvSpPr/>
            <p:nvPr/>
          </p:nvSpPr>
          <p:spPr>
            <a:xfrm>
              <a:off x="3304800" y="1910520"/>
              <a:ext cx="119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我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1" name="Group 9"/>
          <p:cNvGrpSpPr/>
          <p:nvPr/>
        </p:nvGrpSpPr>
        <p:grpSpPr>
          <a:xfrm>
            <a:off x="3132000" y="3068640"/>
            <a:ext cx="1294920" cy="1323720"/>
            <a:chOff x="3132000" y="3068640"/>
            <a:chExt cx="1294920" cy="1323720"/>
          </a:xfrm>
        </p:grpSpPr>
        <p:pic>
          <p:nvPicPr>
            <p:cNvPr id="572" name="Picture 10" descr="25"/>
            <p:cNvPicPr/>
            <p:nvPr/>
          </p:nvPicPr>
          <p:blipFill>
            <a:blip r:embed="rId3"/>
            <a:stretch/>
          </p:blipFill>
          <p:spPr>
            <a:xfrm>
              <a:off x="3132000" y="3068640"/>
              <a:ext cx="1189800" cy="13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11"/>
            <p:cNvSpPr/>
            <p:nvPr/>
          </p:nvSpPr>
          <p:spPr>
            <a:xfrm>
              <a:off x="3232800" y="3494880"/>
              <a:ext cx="119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他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4" name="Group 15"/>
          <p:cNvGrpSpPr/>
          <p:nvPr/>
        </p:nvGrpSpPr>
        <p:grpSpPr>
          <a:xfrm>
            <a:off x="6715080" y="2998800"/>
            <a:ext cx="1312560" cy="1252080"/>
            <a:chOff x="6715080" y="2998800"/>
            <a:chExt cx="1312560" cy="1252080"/>
          </a:xfrm>
        </p:grpSpPr>
        <p:pic>
          <p:nvPicPr>
            <p:cNvPr id="575" name="Picture 16" descr="25"/>
            <p:cNvPicPr/>
            <p:nvPr/>
          </p:nvPicPr>
          <p:blipFill>
            <a:blip r:embed="rId4"/>
            <a:stretch/>
          </p:blipFill>
          <p:spPr>
            <a:xfrm>
              <a:off x="6715080" y="2998800"/>
              <a:ext cx="1189800" cy="12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 Box 17"/>
            <p:cNvSpPr/>
            <p:nvPr/>
          </p:nvSpPr>
          <p:spPr>
            <a:xfrm>
              <a:off x="6833520" y="3399840"/>
              <a:ext cx="119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地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7" name="Group 18"/>
          <p:cNvGrpSpPr/>
          <p:nvPr/>
        </p:nvGrpSpPr>
        <p:grpSpPr>
          <a:xfrm>
            <a:off x="4857840" y="2357280"/>
            <a:ext cx="1438920" cy="1223640"/>
            <a:chOff x="4857840" y="2357280"/>
            <a:chExt cx="1438920" cy="1223640"/>
          </a:xfrm>
        </p:grpSpPr>
        <p:pic>
          <p:nvPicPr>
            <p:cNvPr id="578" name="Picture 19" descr="25"/>
            <p:cNvPicPr/>
            <p:nvPr/>
          </p:nvPicPr>
          <p:blipFill>
            <a:blip r:embed="rId5"/>
            <a:stretch/>
          </p:blipFill>
          <p:spPr>
            <a:xfrm>
              <a:off x="4857840" y="2357280"/>
              <a:ext cx="1321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20"/>
            <p:cNvSpPr/>
            <p:nvPr/>
          </p:nvSpPr>
          <p:spPr>
            <a:xfrm>
              <a:off x="4969800" y="2751120"/>
              <a:ext cx="132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人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0" name="WordArt 22"/>
          <p:cNvSpPr txBox="1"/>
          <p:nvPr/>
        </p:nvSpPr>
        <p:spPr>
          <a:xfrm>
            <a:off x="539640" y="260280"/>
            <a:ext cx="21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隶书"/>
              </a:rPr>
              <a:t>我会摘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隶书"/>
              <a:ea typeface="隶书"/>
            </a:endParaRPr>
          </a:p>
        </p:txBody>
      </p:sp>
      <p:grpSp>
        <p:nvGrpSpPr>
          <p:cNvPr id="581" name="Group 23"/>
          <p:cNvGrpSpPr/>
          <p:nvPr/>
        </p:nvGrpSpPr>
        <p:grpSpPr>
          <a:xfrm>
            <a:off x="1641600" y="2143080"/>
            <a:ext cx="1343880" cy="1294920"/>
            <a:chOff x="1641600" y="2143080"/>
            <a:chExt cx="1343880" cy="1294920"/>
          </a:xfrm>
        </p:grpSpPr>
        <p:pic>
          <p:nvPicPr>
            <p:cNvPr id="582" name="Picture 24" descr="25"/>
            <p:cNvPicPr/>
            <p:nvPr/>
          </p:nvPicPr>
          <p:blipFill>
            <a:blip r:embed="rId6"/>
            <a:stretch/>
          </p:blipFill>
          <p:spPr>
            <a:xfrm>
              <a:off x="1641600" y="2143080"/>
              <a:ext cx="1124640" cy="12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 Box 25"/>
            <p:cNvSpPr/>
            <p:nvPr/>
          </p:nvSpPr>
          <p:spPr>
            <a:xfrm>
              <a:off x="1856880" y="250056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你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84" name="Group 26"/>
          <p:cNvGrpSpPr/>
          <p:nvPr/>
        </p:nvGrpSpPr>
        <p:grpSpPr>
          <a:xfrm>
            <a:off x="6443640" y="1484280"/>
            <a:ext cx="1223640" cy="1223640"/>
            <a:chOff x="6443640" y="1484280"/>
            <a:chExt cx="1223640" cy="1223640"/>
          </a:xfrm>
        </p:grpSpPr>
        <p:pic>
          <p:nvPicPr>
            <p:cNvPr id="585" name="Picture 27" descr="25"/>
            <p:cNvPicPr/>
            <p:nvPr/>
          </p:nvPicPr>
          <p:blipFill>
            <a:blip r:embed="rId7"/>
            <a:stretch/>
          </p:blipFill>
          <p:spPr>
            <a:xfrm>
              <a:off x="6443640" y="1484280"/>
              <a:ext cx="1123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 Box 28"/>
            <p:cNvSpPr/>
            <p:nvPr/>
          </p:nvSpPr>
          <p:spPr>
            <a:xfrm>
              <a:off x="6539040" y="1878120"/>
              <a:ext cx="112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Franklin Gothic Book"/>
                  <a:ea typeface="黑体"/>
                </a:rPr>
                <a:t>天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7" name="矩形 20501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4524E-007 C 0.00312 0.00994 0.00659 0.0185 0.01111 0.02752 C 0.01354 0.0407 0.01146 0.03353 0.01909 0.04833 C 0.02257 0.05504 0.02361 0.06267 0.02708 0.06961 C 0.02916 0.08071 0.03003 0.09204 0.03177 0.10338 C 0.03107 0.14292 0.03298 0.1864 0.02552 0.22595 C 0.02604 0.26665 0.02222 0.31614 0.03021 0.35893 C 0.03246 0.38321 0.03646 0.40611 0.02864 0.43085 C 0.021 0.45467 0.00607 0.47294 3.33333E-006 0.49815 C 0.00034 0.49977 0.00225 0.51087 0.0033 0.51295 C 0.00555 0.51688 0.00937 0.51919 0.01111 0.52359 C 0.01527 0.53423 0.01319 0.52937 0.01753 0.53839 C 0.01649 0.55388 0.01666 0.56961 0.01441 0.58487 C 0.01389 0.58788 0.01076 0.58858 0.00955 0.59112 C 0.00729 0.59551 0.00659 0.60106 0.00486 0.60592 C 0.00833 0.62049 0.00642 0.61008 0.00642 0.6376 E">
                                      <p:cBhvr>
                                        <p:cTn id="150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36 -0.15402 C -0.0677 -0.09436 -0.05989 0.01734 -0.07135 0.09389 C -0.07239 0.11494 -0.07395 0.13529 -0.07499 0.15657 C -0.07395 0.19311 -0.06961 0.23682 -0.07499 0.27266 C -0.0769 0.28561 -0.0809 0.29301 -0.08385 0.30435 C -0.08524 0.31776 -0.08697 0.32146 -0.0901 0.33256 C -0.0894 0.34621 -0.09045 0.36355 -0.08506 0.37049 E">
                                      <p:cBhvr>
                                        <p:cTn id="155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2151 -0.019503 C -0.113641 -0.010943 -0.115721 -0.009093 -0.111041 0.001547 C -0.108951 0.006397 -0.105651 0.009867 -0.103051 0.014257 C -0.099931 0.027447 -0.093501 0.039467 -0.088811 0.052187 C -0.087081 0.056817 -0.086901 0.062137 -0.085691 0.066987 C -0.086901 0.110007 -0.088121 0.150477 -0.098361 0.191417 C -0.097151 0.219397 -0.099231 0.237667 -0.082561 0.254777 C -0.079441 0.266107 -0.071451 0.274207 -0.066591 0.284147 C -0.061731 0.316987 -0.064681 0.351217 -0.071451 0.383367 C -0.070931 0.388217 -0.071451 0.393767 -0.069721 0.398167 C -0.067461 0.404177 -0.059471 0.411577 -0.055481 0.417357 C -0.053401 0.425457 -0.054271 0.427997 -0.058611 0.434017 C -0.061041 0.442797 -0.061901 0.447657 -0.061901 0.457137 E">
                                      <p:cBhvr>
                                        <p:cTn id="160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0.05574 C 0.03611 0.0754 0.04375 0.09251 0.05052 0.11078 C 0.05416 0.12072 0.05486 0.13391 0.05694 0.14454 C 0.06232 0.17183 0.05312 0.13044 0.06319 0.16351 C 0.06528 0.17045 0.06805 0.18478 0.06805 0.18502 C 0.06753 0.20514 0.06632 0.22572 0.06632 0.24607 C 0.06632 0.25185 0.06632 0.25787 0.06805 0.26295 C 0.0691 0.26619 0.07239 0.26688 0.0743 0.26943 C 0.08351 0.28192 0.09601 0.29232 0.1092 0.29672 C 0.12101 0.30736 0.11649 0.30111 0.12361 0.31383 C 0.12673 0.33048 0.12673 0.3476 0.13628 0.36032 C 0.13489 0.36795 0.13246 0.37234 0.12986 0.37928 E">
                                      <p:cBhvr>
                                        <p:cTn id="165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14 0.12373 C -0.0434 0.13714 -0.04201 0.14454 -0.03559 0.15518 C -0.03264 0.16628 -0.0309 0.16559 -0.02917 0.17923 C -0.02969 0.20282 -0.02951 0.22664 -0.03073 0.25023 C -0.0316 0.26642 -0.03542 0.28192 -0.03715 0.29787 C -0.03767 0.30204 -0.0408 0.30551 -0.04184 0.30967 C -0.04063 0.31915 -0.03628 0.33233 -0.04028 0.34135 C -0.0467 0.35638 -0.04931 0.34968 -0.05625 0.35939 C -0.05868 0.36286 -0.0625 0.37119 -0.0625 0.37142 C -0.06684 0.38784 -0.06458 0.39478 -0.0625 0.41258 C -0.06163 0.43617 -0.06233 0.46462 -0.05625 0.48798 C -0.05313 0.52035 -0.06615 0.56083 -0.0467 0.58511 E">
                                      <p:cBhvr>
                                        <p:cTn id="170" dur="1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916 0.08154 C 0.019646 0.097684 0.021036 0.106593 0.027466 0.119402 C 0.030416 0.132766 0.032146 0.131935 0.033886 0.148356 C 0.033366 0.176756 0.033536 0.205433 0.032326 0.233833 C 0.031456 0.253324 0.027636 0.271984 0.025896 0.291187 C 0.025376 0.296207 0.022256 0.300384 0.021216 0.305393 C 0.022426 0.316805 0.026766 0.332673 0.022776 0.343532 C 0.016356 0.361627 0.013746 0.35356 0.006806 0.36525 C 0.004376 0.369428 0.000556 0.379456 0.000556 0.379733 C -0.003784 0.399501 -0.001534 0.407856 0.000556 0.429286 C 0.001426 0.457686 0.000726 0.491936 0.006806 0.520059 C 0.009926 0.55903 -0.003094 0.607763 0.016356 0.636994 E">
                                      <p:cBhvr>
                                        <p:cTn id="175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06:41:00Z</dcterms:created>
  <dc:creator/>
  <dc:description/>
  <dc:language>en-US</dc:language>
  <cp:lastModifiedBy>万润仪器贸易公司</cp:lastModifiedBy>
  <dcterms:modified xsi:type="dcterms:W3CDTF">2020-08-24T01:35:51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